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628613"/>
        <c:axId val="3520916"/>
      </c:barChart>
      <c:catAx>
        <c:axId val="146286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20916"/>
        <c:crosses val="autoZero"/>
        <c:auto val="1"/>
        <c:lblAlgn val="ctr"/>
        <c:lblOffset val="100"/>
        <c:noMultiLvlLbl val="0"/>
      </c:catAx>
      <c:valAx>
        <c:axId val="35209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6286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26CC-D6AD-4B0C-9EE1-AEBAFD003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1CF9-9BB9-42B5-B81E-56F981BE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8550-5FF2-44F9-A1BB-279F02A69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26C7-B177-436A-A62A-8FE118FDC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B5F1-813B-48AF-AF7A-286BD07C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F20F-A7B3-4EFB-80F1-715220A9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4459-DE0A-4F94-9050-808E51E5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8880-513B-4A64-B9E0-7CBEA8AE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4458-EA35-473B-976E-40BACB25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FCEA-A5FE-4490-BCAD-8CE4B791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9BD3-3529-4A73-9C18-767C472F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55E0-B10C-42BC-8722-1A16321A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B5621C-9E00-4DB2-8B17-832D203EE0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