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09713"/>
        <c:axId val="39094617"/>
      </c:barChart>
      <c:catAx>
        <c:axId val="54609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94617"/>
        <c:crosses val="autoZero"/>
        <c:auto val="1"/>
        <c:lblAlgn val="ctr"/>
        <c:lblOffset val="100"/>
        <c:noMultiLvlLbl val="0"/>
      </c:catAx>
      <c:valAx>
        <c:axId val="39094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09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ED4-668F-4AAD-8E4C-16F66C49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906-9B25-433E-9F70-99E9EAAE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8E0-911B-4853-9C60-85561B4D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D32-24CE-44F5-A700-F7C21CC5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82C-613C-4EB2-8CA8-1260CC51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63E-B07B-4FD3-988D-77F1813B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2E3-A49D-4076-A85E-E0E88740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91A-E8A2-40F6-8B24-39142934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A0F-38AB-4111-B1F9-D41986E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C20-212A-4924-9EBB-3A9F0804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130-8EB3-422B-A8D9-B4CF9730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229-C83D-445C-8CAE-CB3BF89D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41287-9249-460D-8400-CB488F5994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