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69030"/>
        <c:axId val="94769950"/>
      </c:barChart>
      <c:catAx>
        <c:axId val="41869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9950"/>
        <c:crosses val="autoZero"/>
        <c:auto val="1"/>
        <c:lblAlgn val="ctr"/>
        <c:lblOffset val="100"/>
        <c:noMultiLvlLbl val="0"/>
      </c:catAx>
      <c:valAx>
        <c:axId val="94769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69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740-2131-49DF-B19B-E06B5DE4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FE9-2E10-43F9-B150-406BFB69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A90-92FA-439F-A1D3-04834447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A4A-BD13-4CCE-B9F1-FD869C78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0D4-91E3-4EF2-83B9-D33C8264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439-5AD9-453E-A10E-CB16B79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546-0BC2-4361-8B76-AD787FD4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B7A-994B-40E0-9120-6D806901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FD5-7E5B-4CE2-AF87-E43C0EBC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344-C67D-4DC4-8947-9B01FF4A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4B6-C9AA-420E-8604-C18B2BC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2C4-63F9-487D-9A46-83101BCE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06EAD-95DE-4191-A75E-EC113382B6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