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74139"/>
        <c:axId val="55656349"/>
      </c:barChart>
      <c:catAx>
        <c:axId val="45174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56349"/>
        <c:crosses val="autoZero"/>
        <c:auto val="1"/>
        <c:lblAlgn val="ctr"/>
        <c:lblOffset val="100"/>
        <c:noMultiLvlLbl val="0"/>
      </c:catAx>
      <c:valAx>
        <c:axId val="55656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4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1E7-3642-43D3-AB72-35478C5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1B6-2D1C-4700-845F-E3B08F5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C77-0721-40CC-AE90-A8A69772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0ED-0149-442F-994D-F0913A72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47E-7335-4395-9346-2550C428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51E-DCC6-4020-9AC4-9CD7D863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5AD-CA1C-415C-823B-60622139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CD4-11FF-4143-9B28-99823EA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42F-E8BA-49B3-AA24-0C851DE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AB3-1AB7-41D8-BA98-41CF012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21F-D149-4721-A3F7-6A6E8AF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BF1-6C31-4B2A-AB0F-A06F9DD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86C1C-B21C-427E-AA48-D8ACCB6184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