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06873"/>
        <c:axId val="8018098"/>
      </c:barChart>
      <c:catAx>
        <c:axId val="90706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8098"/>
        <c:crosses val="autoZero"/>
        <c:auto val="1"/>
        <c:lblAlgn val="ctr"/>
        <c:lblOffset val="100"/>
        <c:noMultiLvlLbl val="0"/>
      </c:catAx>
      <c:valAx>
        <c:axId val="8018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06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917-FEB7-4BE0-837B-F5957CB1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3AE-C14E-4724-A4ED-156D4F63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004-51E9-49BB-ADFA-6CDF62C0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0CD-899B-4EB8-A682-500AC258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857-7B14-4249-82C5-B6A3C50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14A-DB25-4A88-9B92-9FD701EC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7FB-97F7-44B9-AE78-D0FBC400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6CF-F81C-4A4C-94BB-88C39013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B78-BEB8-4A10-9928-DD9A5BBE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C03-2498-416E-9887-985DE6E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924-694D-4F1D-BF74-E309CA3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94E-88D2-412C-B6AC-9F9A8C3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1034D-335C-4770-A3C0-8754EFB40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