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36241"/>
        <c:axId val="35858228"/>
      </c:barChart>
      <c:catAx>
        <c:axId val="76736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58228"/>
        <c:crosses val="autoZero"/>
        <c:auto val="1"/>
        <c:lblAlgn val="ctr"/>
        <c:lblOffset val="100"/>
        <c:noMultiLvlLbl val="0"/>
      </c:catAx>
      <c:valAx>
        <c:axId val="35858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6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F79-5220-48BC-971F-B6D161AF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110-7EC9-4A2B-ABB5-0C9D12D5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D1E-53DE-4BDB-8E4D-119649A8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C7E-31AD-462F-970E-8B076683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A07-45AB-46F1-8D05-E7A6C5A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9FF-092F-465C-90A0-1818DEA9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C92-5DE2-43E4-837A-4157BBE2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5CB-8943-4A9E-91F8-AB4BEB71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21E-B366-4F3E-9FA5-8DCD02E2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EAA-6B2B-4852-8B74-A92C3A7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E81-240E-4BAB-95DC-A164A5AB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F77-4E32-447E-BC5F-97FF985F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C069D-4238-45EE-95D0-64A0DEB1F3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