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63794"/>
        <c:axId val="33210151"/>
      </c:barChart>
      <c:catAx>
        <c:axId val="79563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0151"/>
        <c:crosses val="autoZero"/>
        <c:auto val="1"/>
        <c:lblAlgn val="ctr"/>
        <c:lblOffset val="100"/>
        <c:noMultiLvlLbl val="0"/>
      </c:catAx>
      <c:valAx>
        <c:axId val="33210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63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4B9-A9A3-4ECD-A791-422BEA4D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E15-3D7A-4448-9B7A-7D060448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36B-7059-4A9A-889C-BBBDC443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164-6827-4E88-9EFC-C293B89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40A-57BC-4339-84AC-03930468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F76-994D-4A57-9364-5C98D45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FB1-3FA5-49BD-8726-4E56642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1F9-84B4-4F29-86E0-BC256BF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476-1760-460A-A9B9-ECC4BCE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168-C6C2-4317-99D5-A8DBCA0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267-1EE3-4CD2-9C14-342D7DA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56D-7DF9-48E9-B15B-5DA75F6A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619E8-AAE3-494B-81D5-8055C5975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