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650785"/>
        <c:axId val="37678997"/>
      </c:barChart>
      <c:catAx>
        <c:axId val="756507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78997"/>
        <c:crosses val="autoZero"/>
        <c:auto val="1"/>
        <c:lblAlgn val="ctr"/>
        <c:lblOffset val="100"/>
        <c:noMultiLvlLbl val="0"/>
      </c:catAx>
      <c:valAx>
        <c:axId val="37678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507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02F2-BF59-459B-BFF2-C25C51F9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6D9-2E34-477B-B710-71F5D2B4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EE31-DAD9-4350-A4C5-8597FDF7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0B2-8364-4125-8585-0D9A9DE8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EB4-C9F4-4C29-8424-378C1140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627-3881-4FF0-8259-491CF784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5877-F573-4D01-AAD6-F9525F7B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1979-CFA0-46B4-B812-9CC0B62C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5911-D2C5-4DC2-9F78-C0526A07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C62C-D731-4907-B625-F562CD0E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0F26-3AB7-4AC6-994E-C524F33F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574-85A9-4BB2-A4BB-7EDCE0EA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1FFE2-85DE-453C-988B-4820D849D7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