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06376"/>
        <c:axId val="89346855"/>
      </c:barChart>
      <c:catAx>
        <c:axId val="24806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6855"/>
        <c:crosses val="autoZero"/>
        <c:auto val="1"/>
        <c:lblAlgn val="ctr"/>
        <c:lblOffset val="100"/>
        <c:noMultiLvlLbl val="0"/>
      </c:catAx>
      <c:valAx>
        <c:axId val="89346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06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A46-CF14-4D01-8054-E50B5091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980-454A-4294-9FDF-C41E1808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E12-20E3-4BD5-A6C2-BDA35CDA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05C-D185-476D-9269-169BDBA4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9E4-71B3-4450-BAF7-3800218E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4D9-4624-4879-A946-D3BB1E9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FDA-2027-4157-9DA3-E2DF62C5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EE0-1140-46A2-B5E1-2888551C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948-EB8A-41DF-B7EC-99E4D760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922-C6E7-4C2D-AE3A-715CCE9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233-FB6C-49D5-9CA1-8FC71022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B0E-9649-4806-AE6A-F107106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D5A27-DF95-4DB0-977F-0B2AEADC6A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