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64296"/>
        <c:axId val="46422680"/>
      </c:barChart>
      <c:catAx>
        <c:axId val="87564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22680"/>
        <c:crosses val="autoZero"/>
        <c:auto val="1"/>
        <c:lblAlgn val="ctr"/>
        <c:lblOffset val="100"/>
        <c:noMultiLvlLbl val="0"/>
      </c:catAx>
      <c:valAx>
        <c:axId val="46422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64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688-12ED-4858-96B2-5A1CD502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DE1-D6FC-4962-B861-2334D7F3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092-7657-4483-988A-FB2FE48B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B3F-43AE-40FD-9EAD-1A811955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B71-320A-4E75-A862-466A7639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C8B-F890-422C-812F-6CE54BA8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5C9-9EE6-45DA-9732-FBC8EF9C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061-D1E9-4654-A45F-92AFCD81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6BB-C43E-4402-8BCA-2EE244EF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952-7948-449C-85C5-571118A6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C33-4B82-43B4-89B9-A37877F4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CD8-17F0-4CF2-9221-50A23CBA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14CDA-B6E4-4C57-98D4-5DC2F0FD33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