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4288"/>
        <c:axId val="90791056"/>
      </c:barChart>
      <c:catAx>
        <c:axId val="1424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1056"/>
        <c:crosses val="autoZero"/>
        <c:auto val="1"/>
        <c:lblAlgn val="ctr"/>
        <c:lblOffset val="100"/>
        <c:noMultiLvlLbl val="0"/>
      </c:catAx>
      <c:valAx>
        <c:axId val="90791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4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839-3BB7-4106-8243-3682EEEA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0D3-3817-439F-AC73-5CF3D746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11F-0936-43E1-AC0D-54ACFF85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6ED-29EE-4478-B2B4-CFA1271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7C3-BCE0-4849-81B3-74A457A1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182-A631-47DC-B8E0-83F59E9D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D76-C6DE-4F64-8C38-86E9870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B43-32AC-4C60-9DFD-D9B4747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918-A62C-4F51-9AFD-82CAFAA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70D-2B56-43A6-91AF-EC6BE7F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FF3-4897-41A5-A5E0-7D3917FE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E0C-D96F-4102-A21B-EBECA67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E355-0D94-442B-A645-74075BC92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