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80398"/>
        <c:axId val="50126996"/>
      </c:barChart>
      <c:catAx>
        <c:axId val="98080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26996"/>
        <c:crosses val="autoZero"/>
        <c:auto val="1"/>
        <c:lblAlgn val="ctr"/>
        <c:lblOffset val="100"/>
        <c:noMultiLvlLbl val="0"/>
      </c:catAx>
      <c:valAx>
        <c:axId val="50126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80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78D-2072-4758-B7FB-04203979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373-92B9-47DB-AFAC-99842120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23D-920D-432A-8990-66CB4897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F4B-1CF5-4F34-A558-CF18FCEB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70F-B54F-43B4-A26E-7059B210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BC6-02FE-4BDD-ADA3-BB4E7897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9B0-A623-432B-9B87-0B4155A3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27B-E107-4970-99C2-E151022D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F55-21AE-48F6-9A8B-1250224C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A6B-4850-4A0A-9EE4-1125CA84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6E2-0ACA-46A5-8DE2-FD00F947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F84-6210-47DE-9E3E-BD87753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04C93-7A04-4596-B954-FDF6A31113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