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89104"/>
        <c:axId val="87023130"/>
      </c:barChart>
      <c:catAx>
        <c:axId val="85789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3130"/>
        <c:crosses val="autoZero"/>
        <c:auto val="1"/>
        <c:lblAlgn val="ctr"/>
        <c:lblOffset val="100"/>
        <c:noMultiLvlLbl val="0"/>
      </c:catAx>
      <c:valAx>
        <c:axId val="87023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89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9B0-FAF8-4F2B-BB28-0F0C725A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07C-3AB7-4B40-8ABB-C5F83B9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72C-5878-446F-9D96-EABA436D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FE3-4E56-4152-92D3-D688041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32D-A3DE-47B1-85C5-CACD84E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8E8-EEB2-4E8E-B137-BC25FB1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5EC-64C3-4B33-B79B-12E8A90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5DE-E610-4DDD-9D7D-F577615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C18-E2EF-4190-9723-389B2381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A65-F846-4EEB-9EF3-2B0E1DEF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DA1-1C6F-469E-8E08-E0D58E0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FF3-078B-4095-8738-87F0CE9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2F64-88C1-4626-9C50-FF1FE95A3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