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35086"/>
        <c:axId val="22155515"/>
      </c:barChart>
      <c:catAx>
        <c:axId val="48935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55515"/>
        <c:crosses val="autoZero"/>
        <c:auto val="1"/>
        <c:lblAlgn val="ctr"/>
        <c:lblOffset val="100"/>
        <c:noMultiLvlLbl val="0"/>
      </c:catAx>
      <c:valAx>
        <c:axId val="22155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35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72D-6881-41D5-AF62-B1102371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542-94C3-46CD-9C90-D07F9120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7F7-005D-4F03-901E-E69304E6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707-CEF5-4104-A0F1-949207C2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51A-69CD-43C4-9052-EE4709C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868-5BC2-4EC6-BB67-A757F725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7D3-0BB1-43AE-9134-B569D528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7E3-9C27-4683-B7CD-D1CED6C1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3FA-0CE3-4D98-A1DF-740C25AA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A12-91E0-4339-81A3-CC0414D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7E2-F08D-4FBB-AFA1-6571DB84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9AE-2DD4-4104-BDC0-1702A15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D5C4F-203A-4D77-9DD7-2333E3616D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