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49213"/>
        <c:axId val="61955271"/>
      </c:barChart>
      <c:catAx>
        <c:axId val="865492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55271"/>
        <c:crosses val="autoZero"/>
        <c:auto val="1"/>
        <c:lblAlgn val="ctr"/>
        <c:lblOffset val="100"/>
        <c:noMultiLvlLbl val="0"/>
      </c:catAx>
      <c:valAx>
        <c:axId val="61955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492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F38D-0099-461C-9069-9AB899DA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BCB1-394C-44AA-8FE6-B289D8F7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9A84-2662-4BF1-A75F-F4230ED1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F78-62E5-409C-97A3-BBBE0907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D57-658B-4FA8-BBA0-35F8EF2E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DC39-6631-4365-A50D-0A9EE882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3BB6-53D2-4F7A-87A9-952441C8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B1B0-1BCE-415B-9368-20FC0ADE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130-66A2-4517-A11A-38B07BC2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886A-06D4-4800-8962-5C0D3259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0998-3ABA-412C-A925-6A91E5A2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45A-2B90-4D4F-9FFC-8D92E006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0A006-A5EE-4E1B-A7D9-89138C12ED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