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41940"/>
        <c:axId val="521025"/>
      </c:barChart>
      <c:catAx>
        <c:axId val="17641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025"/>
        <c:crosses val="autoZero"/>
        <c:auto val="1"/>
        <c:lblAlgn val="ctr"/>
        <c:lblOffset val="100"/>
        <c:noMultiLvlLbl val="0"/>
      </c:catAx>
      <c:valAx>
        <c:axId val="521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41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E03-3879-49B9-9065-7BEADBFB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D96-F923-40DE-9CDA-2E4C98F1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D4C-136B-4678-86FD-AEE18217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0F8-915B-47A8-8BB8-1C266466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591-1D10-4A84-8EDF-FCF1E2AA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B5B-D699-4DE0-B20A-C84ACC1D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084-BC96-4C41-9786-310000D6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FBA-25F0-49A9-9D43-5A5F42D0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757-2049-41F4-9E8B-88D3D93D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022-B7D8-45DE-9F41-308646C4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399-3F5A-4A25-8ED9-3097490B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874-856F-42C0-957E-E179BD67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B1F5F-66B9-44DA-A939-21DC9CA111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