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56446"/>
        <c:axId val="12545655"/>
      </c:barChart>
      <c:catAx>
        <c:axId val="53156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45655"/>
        <c:crosses val="autoZero"/>
        <c:auto val="1"/>
        <c:lblAlgn val="ctr"/>
        <c:lblOffset val="100"/>
        <c:noMultiLvlLbl val="0"/>
      </c:catAx>
      <c:valAx>
        <c:axId val="12545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56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166-EC00-4017-A310-7D71208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7B5-3237-4E60-98E3-C88B3F5C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886-DF11-45DA-B4CA-31372A38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422-22BE-458B-9D81-2350F0F3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331-024D-444D-9DC5-09134E2D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4E6-151D-41D5-8020-0382FE7C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0CA-0508-4F5A-97F0-15AEF64C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516-9EAA-4F6C-B8CA-3E85ACDA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054-CAEB-49DD-B734-C0130A1E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10A-D168-46EE-A7AA-F160FC13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1DB-6A60-446C-B06F-A3BF952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1C8-EB90-4259-9517-76BCD943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F29E8-9F78-4987-BFDE-4A08EAAA15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