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910960"/>
        <c:axId val="69889681"/>
      </c:barChart>
      <c:catAx>
        <c:axId val="799109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889681"/>
        <c:crosses val="autoZero"/>
        <c:auto val="1"/>
        <c:lblAlgn val="ctr"/>
        <c:lblOffset val="100"/>
        <c:noMultiLvlLbl val="0"/>
      </c:catAx>
      <c:valAx>
        <c:axId val="698896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9109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826D-4264-4739-A4E0-0DE241110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7019-B91D-4F73-B253-A1C114C3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425A-6A17-4A58-892A-1FE975303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3DBE-B909-46E3-A68D-7FD65F7A9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2B45-BC0C-4D86-AB51-B56CDFB2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9CFE-C18C-4C57-BD2E-2F5956BB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AE51-B1D8-4AF3-A88F-03E725B4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1755-F708-48FF-953D-E096DA18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29D5-1FFB-4006-969E-8C91A31C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5014-0038-42A4-BE67-373DEFB5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6E9E-B540-4A7D-8766-43DA37B4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3F53-CC8A-47DA-9939-DABD34D2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10BE99-EDAE-42A3-A72D-8AFCD99F0F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