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93507"/>
        <c:axId val="43765139"/>
      </c:barChart>
      <c:catAx>
        <c:axId val="68893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65139"/>
        <c:crosses val="autoZero"/>
        <c:auto val="1"/>
        <c:lblAlgn val="ctr"/>
        <c:lblOffset val="100"/>
        <c:noMultiLvlLbl val="0"/>
      </c:catAx>
      <c:valAx>
        <c:axId val="43765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93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600-3C89-44DB-B0FB-2A85E7A0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C3B-73BE-4A6C-A7FB-753860B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863-5F83-4105-800A-5D044FC6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C93-1C2A-4D1A-B11B-9FD0541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D21-3515-4242-97E1-8B3174E7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635-4C1F-4BEC-B002-E7B63DE8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64F-36E4-4978-BE72-86AB0C4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170-6B21-405A-81EB-ADE51ABE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6ED-6FBC-4514-8054-2D1E2DBF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0DB-C692-4C76-8BF7-BE9732C8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90A-533A-4325-ACA2-195FE45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3DD-55F6-4284-BF1B-0439D70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49741-FB82-4F91-B1C6-86939C8D6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