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033498"/>
        <c:axId val="83981132"/>
      </c:barChart>
      <c:catAx>
        <c:axId val="770334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981132"/>
        <c:crosses val="autoZero"/>
        <c:auto val="1"/>
        <c:lblAlgn val="ctr"/>
        <c:lblOffset val="100"/>
        <c:noMultiLvlLbl val="0"/>
      </c:catAx>
      <c:valAx>
        <c:axId val="839811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0334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E20-5DD0-4288-B37F-F991C681C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20F9-6398-4B35-99E3-FA66C545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375-5172-4C6C-B810-E8321D72E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720F-4F96-4760-8FD8-8349E222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C60A-5649-440F-95D2-EABE97A1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62C8-976A-4BA8-AC2F-7D96F6F75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8C76-57BB-4C28-986C-8E8C4885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BF02-9AD1-4D3B-9B5E-DC8EC5A3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F25-44D4-4285-B09C-A7EC8EA8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678A-24DA-4321-BC97-3A21C76A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09C6-8804-49E4-AC6A-1EE61DBF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FC4-A7C6-48F9-85F1-7FC740F1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462B4-1CDE-435B-BCA0-CC2FB032A8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