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81092"/>
        <c:axId val="81556069"/>
      </c:barChart>
      <c:catAx>
        <c:axId val="10581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56069"/>
        <c:crosses val="autoZero"/>
        <c:auto val="1"/>
        <c:lblAlgn val="ctr"/>
        <c:lblOffset val="100"/>
        <c:noMultiLvlLbl val="0"/>
      </c:catAx>
      <c:valAx>
        <c:axId val="81556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1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ECF-29C7-476E-95DC-3199E183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08E-BB96-43F8-BF30-9E1A9421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DFC-AE9D-4C5A-AB35-F001B69C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5F5-415D-4BB9-B232-6CC98E62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12F-913D-4636-A29F-636A1A1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25F-E131-415A-ACBB-8C0851D7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971-0BFF-4B2E-AF9B-50A72BEA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11D-CADF-4717-A879-2429037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EAE-37E7-44A8-9687-BD89ADCD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C06-2ACF-4FB4-9069-57E23737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290-B9C2-4908-87A7-2409A10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6FE-272D-423D-A7FB-E670DCC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ED7D2-5CD6-442E-A838-2016246793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