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29155"/>
        <c:axId val="43398626"/>
      </c:barChart>
      <c:catAx>
        <c:axId val="49729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98626"/>
        <c:crosses val="autoZero"/>
        <c:auto val="1"/>
        <c:lblAlgn val="ctr"/>
        <c:lblOffset val="100"/>
        <c:noMultiLvlLbl val="0"/>
      </c:catAx>
      <c:valAx>
        <c:axId val="43398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29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3EB1-4DD3-4B13-9A30-51D43FD6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2F6-3B8A-49FA-ABC5-079C1266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C58-702C-440C-97CD-81BF6D82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1F8-D872-4EE1-87C9-052CBEEF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3BE-019F-4A48-A9AF-06DB9889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FFB-00BE-43D0-B528-CB3A288B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BCB-A1F4-41C6-85D2-94FA483F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3B2-BCED-4C24-8279-A6F1BF53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A47-162C-4C61-94BE-A2F1F6FF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80D-5D5A-4D75-9EE3-3FC36DE4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6C4-4C79-4B94-BF6C-8C39EAEF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301-02F7-441E-8FBC-14F06EED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F0543-BC02-4185-9AC7-901D93AAF1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