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87509"/>
        <c:axId val="87541099"/>
      </c:barChart>
      <c:catAx>
        <c:axId val="22087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41099"/>
        <c:crosses val="autoZero"/>
        <c:auto val="1"/>
        <c:lblAlgn val="ctr"/>
        <c:lblOffset val="100"/>
        <c:noMultiLvlLbl val="0"/>
      </c:catAx>
      <c:valAx>
        <c:axId val="87541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87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1FF-E3C1-47B8-8385-D8B311F2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FC6-3C73-4F1D-BADC-0E0B0E7D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E09-74DE-462E-B363-12F9C3DC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671-4881-4119-99CF-357AD401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150-55D3-4956-97DA-D297285C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A6F-B779-43C6-A4F8-39797452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51A-EFA8-4CC3-A585-727141F5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222-3997-488D-A712-53114F84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EAC-3237-46F7-A98B-1FE82654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7E4D-8FDE-469C-82FE-7D48C753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AB9-9257-492A-A4CF-289D79DC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959-C714-4D97-A3CF-DF8A9D52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6B2CA-3DC3-4919-B774-BAA4ED57D4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