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38351"/>
        <c:axId val="58290841"/>
      </c:barChart>
      <c:catAx>
        <c:axId val="55838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90841"/>
        <c:crosses val="autoZero"/>
        <c:auto val="1"/>
        <c:lblAlgn val="ctr"/>
        <c:lblOffset val="100"/>
        <c:noMultiLvlLbl val="0"/>
      </c:catAx>
      <c:valAx>
        <c:axId val="58290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38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A67-FE9D-42F5-8809-3CD2752B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B09-9E05-45ED-A4B8-C4B6A36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1D8-C437-447A-854B-61EAE3E2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418-D4C5-42EB-9ED1-EB552B62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B7C-98BB-488F-9239-E26D89F3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5A7-C7D0-4330-80CA-8E549AC5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DA4-4BF6-485D-B588-58B36B8F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352-C869-42B7-B8C2-298311D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3B8-1D5B-406F-AC94-C6470587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65E-6E7C-4575-9217-A9379799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AFE-C8C9-4A2E-82A7-7FC0EA76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BE9-C1EB-45FF-A199-08522675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AA80E-C6DB-4B29-92B3-9C63DD3197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