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819338"/>
        <c:axId val="74449403"/>
      </c:barChart>
      <c:catAx>
        <c:axId val="178193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449403"/>
        <c:crosses val="autoZero"/>
        <c:auto val="1"/>
        <c:lblAlgn val="ctr"/>
        <c:lblOffset val="100"/>
        <c:noMultiLvlLbl val="0"/>
      </c:catAx>
      <c:valAx>
        <c:axId val="744494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8193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C45C-883B-4B70-BF38-5C3EBE944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D803-193E-4BD1-B91F-6717613F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4635-16BF-4BE4-BD06-DD0B7C8B2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2891-CF77-4DAE-A95B-941D2E64D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B170-CAB2-4FFF-B3D2-B1285D96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9B5B-8585-4042-B33E-91DFBB42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424F-32B1-4739-9073-367AE3D7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AE06-29C4-406E-A05C-B4280F0A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B9CD-AA0D-410A-8AC1-298A5015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E305-28AE-47FF-B76E-9AB74A3B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AA46-7318-4ADE-88E6-214DE863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0A8C-EF52-4C8A-809E-B3781788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834086-C8DC-4BB5-BF1F-84A9118F3D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