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86284"/>
        <c:axId val="25221826"/>
      </c:barChart>
      <c:catAx>
        <c:axId val="18986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1826"/>
        <c:crosses val="autoZero"/>
        <c:auto val="1"/>
        <c:lblAlgn val="ctr"/>
        <c:lblOffset val="100"/>
        <c:noMultiLvlLbl val="0"/>
      </c:catAx>
      <c:valAx>
        <c:axId val="25221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6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0A2-D03D-408B-AA25-7CBEA508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7A2-32BF-4931-8B36-EDD1F23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139-0AF0-4756-9F4C-7DB9B8DC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DCA-BCBC-4C1A-B47D-F1BA638B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D79-236C-4035-A0A2-4CCCBB8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705-7D36-422A-B6A6-995582FD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876-B274-410F-ACC1-435BAE0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6C5-B33E-415A-A487-707629E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80D-8968-4CCD-BFA6-29C09AA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106-1FBF-42C0-BCA4-309907EB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7EE-CCB0-475D-A3C2-79CB880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75F-FC72-4D42-8D1A-32390F5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9E36-B11D-4252-8804-F424F7DA4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