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42657"/>
        <c:axId val="10806573"/>
      </c:barChart>
      <c:catAx>
        <c:axId val="16742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06573"/>
        <c:crosses val="autoZero"/>
        <c:auto val="1"/>
        <c:lblAlgn val="ctr"/>
        <c:lblOffset val="100"/>
        <c:noMultiLvlLbl val="0"/>
      </c:catAx>
      <c:valAx>
        <c:axId val="10806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42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B5A-C456-405F-ABB2-4D205F80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747-26D7-4353-B7B2-7EF5A605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F30-4F6E-48B9-A809-B8BBD6A0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D8F-47CD-404B-8CB5-E05DE5F8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2A8-F9F8-4C65-9D16-DC29BF78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D3A-30DF-4039-9985-6A845219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B16-142E-4583-BD14-730F4C31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0AC-3BAE-4DC1-A9C3-26017E3B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761-2603-4F51-8B34-202CBC15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F1A-3907-4EA1-9B4D-F1E8A8D7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2C3-5915-43B8-A2EF-065B5C09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6EF-2352-4624-88F7-899F74E3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49788-1AE1-4160-8244-26485EB000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