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311710"/>
        <c:axId val="82428759"/>
      </c:barChart>
      <c:catAx>
        <c:axId val="853117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28759"/>
        <c:crosses val="autoZero"/>
        <c:auto val="1"/>
        <c:lblAlgn val="ctr"/>
        <c:lblOffset val="100"/>
        <c:noMultiLvlLbl val="0"/>
      </c:catAx>
      <c:valAx>
        <c:axId val="824287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117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2659-C3B4-486E-BBCC-4E563F5E9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DFAA-AD14-4483-8BEC-6F4D061C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A861-BACC-4686-B83C-6CCC8E80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E609-C4B8-44EB-B6E8-58B2F5ED2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1E42-B1BD-4B8A-B807-7880F369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CA53-F2D1-4886-B94A-1F7FF3AB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DCD0-1BB8-44C7-96E4-87E59B21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56E1-7FCF-478C-893C-5A68F848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9FE5-4FE5-495B-8C59-A8544C7B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463A-6D30-4636-A350-5EA4BF41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E94A-02E7-47A8-A55D-5D56DBF5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24FC-3F73-4F83-AF91-0E93DE51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4FE8F-35FC-4199-A357-AD5C2715A9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