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85289"/>
        <c:axId val="27118426"/>
      </c:barChart>
      <c:catAx>
        <c:axId val="58852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118426"/>
        <c:crosses val="autoZero"/>
        <c:auto val="1"/>
        <c:lblAlgn val="ctr"/>
        <c:lblOffset val="100"/>
        <c:noMultiLvlLbl val="0"/>
      </c:catAx>
      <c:valAx>
        <c:axId val="271184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52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FAC0-C35D-4551-A0A0-E4557A812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B53C-A0DF-4831-AD15-1BEC1087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1D55-47AA-458E-B60B-F3657C22D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CB73-B75F-4AB4-9994-56528615B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16B1-FDAA-47D6-AC2E-4AC7B31F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39EB-DC56-4182-95D6-908EBBC2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47B7-3FC3-4993-A326-6A4B01C3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E3F3-AE95-46B6-9ACE-0E6B856A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E3B9-E01A-4B65-B6B2-D14E2B82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B242-C3FB-44C5-BEED-14CCA891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EF02-08B7-4D1F-A6A2-269E9430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D2C1-E4A7-4F99-AC43-7DD62E26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FBEA9F-C4EA-4245-8170-F4EC501BF4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