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104011"/>
        <c:axId val="93661228"/>
      </c:barChart>
      <c:catAx>
        <c:axId val="241040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61228"/>
        <c:crosses val="autoZero"/>
        <c:auto val="1"/>
        <c:lblAlgn val="ctr"/>
        <c:lblOffset val="100"/>
        <c:noMultiLvlLbl val="0"/>
      </c:catAx>
      <c:valAx>
        <c:axId val="936612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040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76E0-6793-459C-9B52-087DC9461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E059-6E4B-49A7-BE8B-BD935E99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A996-FD58-4D1D-9807-34D3D5A1E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2C05-CC8E-46A6-BFD1-9C43020D9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D85B-F953-4925-9412-6F6212C7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96C3-D03D-46A7-8ED5-4FB9570C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531C-FEA8-4D48-846E-513DA216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DB76-8833-4896-97B0-9B3678BD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518E-7743-4C89-A9CF-8D7C4ADC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D999-B807-42C3-A8AD-6F9EC382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C5E1-669F-4065-A8AD-FBB64098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9FBB-622D-4098-80E9-964C3E3C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055DF3-0E40-4B6F-BA71-AD63BAB769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