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05492"/>
        <c:axId val="60054634"/>
      </c:barChart>
      <c:catAx>
        <c:axId val="55205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54634"/>
        <c:crosses val="autoZero"/>
        <c:auto val="1"/>
        <c:lblAlgn val="ctr"/>
        <c:lblOffset val="100"/>
        <c:noMultiLvlLbl val="0"/>
      </c:catAx>
      <c:valAx>
        <c:axId val="60054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05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D49-384E-4D6D-B29D-CB980E8A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F722-96E6-4D24-9092-DC9BBB3F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1206-0FD3-42C7-A061-7BD21C93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18A-3771-49C1-BD06-695C72AD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275-DDF7-4B32-A37D-02F808F9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BB18-8C8B-4669-BF74-4E7BA58D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2B4-C76E-42F8-9003-CBEF7C3E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A0A-B45B-4545-962C-2CA0DE57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E56-53D9-46AD-B164-F890A0FC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EC3-EEED-4C19-B67F-7012620F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29F-3FAC-4098-BBEB-82522EE3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102-9D76-40F1-B530-9AC361E5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92F86-EA80-4116-AA7A-0929F9F7CD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