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49372"/>
        <c:axId val="61868427"/>
      </c:barChart>
      <c:catAx>
        <c:axId val="77549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68427"/>
        <c:crosses val="autoZero"/>
        <c:auto val="1"/>
        <c:lblAlgn val="ctr"/>
        <c:lblOffset val="100"/>
        <c:noMultiLvlLbl val="0"/>
      </c:catAx>
      <c:valAx>
        <c:axId val="61868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49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7D4-058F-45B6-9A43-053D8BFB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1A1-5DDA-4E7B-894C-E8DE7DB7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EE1-44FE-488A-9948-7084D2C1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D42-334D-476F-A166-56ED0D13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864-B840-4369-BB37-6DD2804D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BA0-1215-4707-9981-DFD14830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647-BAE4-4DF4-BC28-73A90CAA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A3F-A2F6-4A81-BE90-B88D5017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E8A-9CE1-40D3-BAC5-9B1A9FC7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BC6-E142-4881-ABAD-FD3405EC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CC6-8E8B-4742-AE5C-543E7F42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FA0-A5EE-48DB-939D-F8B37F7B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6DBE9-8308-4205-9827-C0A7E27110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