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13743"/>
        <c:axId val="49275582"/>
      </c:barChart>
      <c:catAx>
        <c:axId val="576137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75582"/>
        <c:crosses val="autoZero"/>
        <c:auto val="1"/>
        <c:lblAlgn val="ctr"/>
        <c:lblOffset val="100"/>
        <c:noMultiLvlLbl val="0"/>
      </c:catAx>
      <c:valAx>
        <c:axId val="49275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137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8FB-786D-41DD-98D3-654FC8FE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83D-D5C9-4528-B6B4-D4E79BC9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974-9EFC-4096-91F3-E011CBB1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1D7C-A464-42EA-B40F-C48ADEB7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C764-0D1E-4D04-A245-FC82BC09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461-DF72-41B8-87A1-773EF481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EFE-74B5-4126-B3F4-452397DB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ECA-76BB-41BE-AE69-1A054AA7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CBB-80A9-4668-99E7-CC1CDB91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357-BAF0-4406-A370-FC6837A0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9FE-9E7B-4CB4-917D-B8BA2F73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9EF-B86B-40E3-ACB8-245774FF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C14C0-0A45-415C-9978-C1284685B0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