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772070"/>
        <c:axId val="71384974"/>
      </c:barChart>
      <c:catAx>
        <c:axId val="117720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384974"/>
        <c:crosses val="autoZero"/>
        <c:auto val="1"/>
        <c:lblAlgn val="ctr"/>
        <c:lblOffset val="100"/>
        <c:noMultiLvlLbl val="0"/>
      </c:catAx>
      <c:valAx>
        <c:axId val="713849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7720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EDC5-BDB5-4711-B966-9283CBB2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A93C-A43D-438B-A29F-6507B720B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D96B1-0454-4747-8955-E3F64CEAE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10C-94DC-443D-BAD3-D7EB8AA7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85AF-1E4F-4481-9615-D622F8674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BD7E-D4BA-4CD4-9279-40B873B9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3277-31B4-42CA-B146-1B126FB9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44B7-9924-4EA8-9E90-0844850D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AB5D-FFC9-4188-96CE-97705955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071F-DC05-45C3-AF94-0253B492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9DFE-84A4-486A-9E1F-EAACE32E6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4027-BD9F-464D-9D3E-53087CD6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600BB-333F-46EC-B270-726E7DAEFB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