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61975"/>
        <c:axId val="60693929"/>
      </c:barChart>
      <c:catAx>
        <c:axId val="5586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3929"/>
        <c:crosses val="autoZero"/>
        <c:auto val="1"/>
        <c:lblAlgn val="ctr"/>
        <c:lblOffset val="100"/>
        <c:noMultiLvlLbl val="0"/>
      </c:catAx>
      <c:valAx>
        <c:axId val="60693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6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A94-5835-4433-9AD0-537FB9EC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5E2-D1A8-47A6-A4F9-8CF9CE7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997-0EE5-4C2F-B589-C485D22A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AE2-0D6A-4417-B34B-FA87B553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8AD-CBA3-4302-8A08-341D01E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39F-CACF-4F05-8E42-54D9709E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B7A-544F-42D7-B8B9-21BC90F7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8A4-FF60-461C-A620-EABA430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5AE-8CD9-427E-8D84-C9623D1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90F-7EC6-47E0-B3C3-F9D576D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DEA-32C9-4D69-8F5F-549327B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D38-9B5D-4A8B-B187-D7D990F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EC3DA-5114-40DA-822D-43F25B7106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