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16442"/>
        <c:axId val="84892575"/>
      </c:barChart>
      <c:catAx>
        <c:axId val="350164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92575"/>
        <c:crosses val="autoZero"/>
        <c:auto val="1"/>
        <c:lblAlgn val="ctr"/>
        <c:lblOffset val="100"/>
        <c:noMultiLvlLbl val="0"/>
      </c:catAx>
      <c:valAx>
        <c:axId val="84892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164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7209-44FE-414A-8BAE-A50F7646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624A-D1EE-4758-B23D-0EAB5688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60E-80D8-46CF-8E34-142EC06D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616-0A13-457A-BB71-17AB6B25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6DC7-E4AB-45F1-9424-25F55E26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896B-86BA-4A3B-A721-ECB65682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D4E9-3B27-4299-A3A8-D41EDC8E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C6F2-5FE1-4C8E-A72A-A5D94D34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D60-4895-432C-B464-DEE76C03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C36-44B9-4119-B525-EE83F179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BDFB-0194-4BD5-AF8B-92C55811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89D6-0117-4A01-BE26-8E81D580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8B5E2-15B2-4D8D-A0D6-A94D085705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