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49838"/>
        <c:axId val="37182820"/>
      </c:barChart>
      <c:catAx>
        <c:axId val="67549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82820"/>
        <c:crosses val="autoZero"/>
        <c:auto val="1"/>
        <c:lblAlgn val="ctr"/>
        <c:lblOffset val="100"/>
        <c:noMultiLvlLbl val="0"/>
      </c:catAx>
      <c:valAx>
        <c:axId val="37182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49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F46-60B7-4D09-9A36-54210A45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CD0-A1A5-47FC-A09D-47382AEC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B50-9514-4569-8552-05409932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52E-8B78-4F39-B088-3CA4480E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5A2-6C78-43A4-B446-08E37F4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A7B-0495-487E-B761-8D261CFE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708-7EC7-4CF7-8FB2-9C078409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BB4-F418-4BDD-B4F5-E069A46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D77-A541-43A5-868D-87C5202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CA1-9ABD-4059-A221-773FAABF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156-1625-4C28-BE4B-BD94918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81E-7D6C-4F0C-8B8F-8C7B61D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E128D-56D8-4089-96A1-B701404203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