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75349"/>
        <c:axId val="7222699"/>
      </c:barChart>
      <c:catAx>
        <c:axId val="39975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2699"/>
        <c:crosses val="autoZero"/>
        <c:auto val="1"/>
        <c:lblAlgn val="ctr"/>
        <c:lblOffset val="100"/>
        <c:noMultiLvlLbl val="0"/>
      </c:catAx>
      <c:valAx>
        <c:axId val="7222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75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36B-7EDF-4A0F-83C1-D74D4852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C00-7282-4EAB-88D0-BE404BBF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29C-92D2-4059-A9CF-FDBC69C4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ED8-89AC-4108-A132-6FBFEE1B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262-A751-400D-AB52-8FF81735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1F3-242E-4C25-AAB2-28E693BB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164-E606-408B-92AD-7D00FAD2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928-5B47-4902-8F3F-63D2AFB0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C7E-E1D0-44C1-9C96-586D0AAE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51A-0284-4E4F-839D-612201EC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EA4-8A4B-422E-A8C6-42FCAD68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983-F4E3-4E5F-B3DC-2953B83A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EFCCB-AD92-4E01-B3DE-7987899FD4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