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04959"/>
        <c:axId val="39039215"/>
      </c:barChart>
      <c:catAx>
        <c:axId val="541049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39215"/>
        <c:crosses val="autoZero"/>
        <c:auto val="1"/>
        <c:lblAlgn val="ctr"/>
        <c:lblOffset val="100"/>
        <c:noMultiLvlLbl val="0"/>
      </c:catAx>
      <c:valAx>
        <c:axId val="39039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049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050-41CB-4AB2-9307-8CECA63D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4625-5628-480C-BAE9-CB32EE11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7AB1-F7C6-4370-B426-D3DEB2A7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591-8BF1-49E1-BFA0-7CB757EF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4C8-639B-43E4-AA34-8E38C29B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153-6351-4374-8A71-13F8E55B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D523-940C-4C31-8FB7-8A1D7112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72F-0898-4FCF-A9D6-E8C13AB8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CC0-DAAF-4100-80F8-0FBAE7AD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173-102A-4C0E-BF67-6E796053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0D6B-5EB3-4325-950B-5CC5C759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474D-A1F3-4B63-8A94-4BABF680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A097F-25AA-4D7D-B8C8-4D40116765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