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23596"/>
        <c:axId val="25753395"/>
      </c:barChart>
      <c:catAx>
        <c:axId val="70323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3395"/>
        <c:crosses val="autoZero"/>
        <c:auto val="1"/>
        <c:lblAlgn val="ctr"/>
        <c:lblOffset val="100"/>
        <c:noMultiLvlLbl val="0"/>
      </c:catAx>
      <c:valAx>
        <c:axId val="25753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23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2CB-45E2-4C6F-AFDC-46B33E0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18-78FF-4B18-82EF-E330A19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187-F987-474F-9505-9757711B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F23-BEA9-425D-A555-26C96E4D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E56-9EE3-4119-A973-30CF230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2C6-B9C1-4B69-B7C1-86E01B1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381-3BA0-44DD-9FCE-A7AC95A4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309-082E-4106-9AD0-0DD0FAD0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F6D-40FE-4C2C-B3EC-489C41F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E47-4ADB-4CB0-88A0-F9E86AC7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8C4-5A3E-4CCA-AD41-7BD392C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9F7-163B-4ADC-8EB1-60B5A31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8F37C-98F8-47C8-9AC7-C9D955133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