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02054"/>
        <c:axId val="69687481"/>
      </c:barChart>
      <c:catAx>
        <c:axId val="84002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87481"/>
        <c:crosses val="autoZero"/>
        <c:auto val="1"/>
        <c:lblAlgn val="ctr"/>
        <c:lblOffset val="100"/>
        <c:noMultiLvlLbl val="0"/>
      </c:catAx>
      <c:valAx>
        <c:axId val="69687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2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648-40AC-4206-A987-CE6ABD91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95B-0B75-4045-97EB-8DEC890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E49-5F78-4705-A373-BD8EBC3B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E3D-7948-4BC9-B50A-53AD288F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385-1A3A-47F2-A8E1-EBA19FF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4B0-194A-48A4-9083-57A4AC1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7E1-87F9-4A74-93F0-6BE2D25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B7-65B3-4F79-9AAF-D77E836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C8D-E044-40D1-BDC4-8FACD08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249-51C7-403B-90E1-62C2956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1D6-33F6-463D-90EA-564FCC1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532-F4CB-4AF0-B802-A9CDAAC6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4FFA-442B-4797-AE7D-41C8B776F8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