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67864"/>
        <c:axId val="11118392"/>
      </c:barChart>
      <c:catAx>
        <c:axId val="10967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18392"/>
        <c:crosses val="autoZero"/>
        <c:auto val="1"/>
        <c:lblAlgn val="ctr"/>
        <c:lblOffset val="100"/>
        <c:noMultiLvlLbl val="0"/>
      </c:catAx>
      <c:valAx>
        <c:axId val="11118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67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F74-40EB-48F0-9FD0-5E3314B6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C47-B1A4-4DF2-96B7-815AC731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572-7ACB-4538-8943-C374F222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6B1-8EC3-4298-9EFD-5D1F8725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13F-8C2D-40A0-8CD3-B793DDF5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D75-0E91-48A8-96F6-6E6871C4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E39-FA83-4301-8369-996B565D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19F-21B6-49A6-9B33-FBC444A1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327-1D9E-441F-B0CD-0AEFC1A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AD7-00C8-451F-AEDB-5A038095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938-1631-4593-8084-2A76FA0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F82-6C53-45F1-B77B-C7579D64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57DD1-B37A-44A7-8BA4-9A03437580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