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36658"/>
        <c:axId val="25785320"/>
      </c:barChart>
      <c:catAx>
        <c:axId val="51136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85320"/>
        <c:crosses val="autoZero"/>
        <c:auto val="1"/>
        <c:lblAlgn val="ctr"/>
        <c:lblOffset val="100"/>
        <c:noMultiLvlLbl val="0"/>
      </c:catAx>
      <c:valAx>
        <c:axId val="25785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36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27F-968F-46D8-A116-C61D67B4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2DF-248B-413F-9985-56CC11FE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C47-9FC6-4B61-A55C-63D0CDED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AE9-565A-44A3-AE6F-B93F6AFD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987-1050-47ED-B5EE-713F3932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463-3457-4554-B2FD-651EC10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376-3B55-47BD-875A-B4B50CF1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87A-11B9-45D8-901C-7E7E3085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44F-7199-4EDF-9BDC-87A64416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B58-4859-4235-8B7B-D9E0AEF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3EF-F2F0-4167-926C-B5DE9FB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AB4-2364-479D-BE43-E3B9D26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5F05E-9D29-4C23-8FC4-94CAB0D50D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