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78708"/>
        <c:axId val="32815563"/>
      </c:barChart>
      <c:catAx>
        <c:axId val="97078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15563"/>
        <c:crosses val="autoZero"/>
        <c:auto val="1"/>
        <c:lblAlgn val="ctr"/>
        <c:lblOffset val="100"/>
        <c:noMultiLvlLbl val="0"/>
      </c:catAx>
      <c:valAx>
        <c:axId val="32815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8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D2E-A80C-4F4F-A602-078514DE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9B2-CFB4-41A6-94AA-9BDCF4B5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0B3-27AE-42DD-BF1F-968CE30F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31C-5008-4B2E-A074-E286115D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3F4-FC8A-4F2F-A69B-33C0FFB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85B-4E04-4BE5-BBC5-81FDF03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16C-1B5A-43B1-ADFE-54277AA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59A-D687-46A8-A830-F79BECD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6B2-A255-4327-B67C-E664D5C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AD3-CFD2-4371-82C8-4581508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98B-D124-414D-B0C1-D2B13B1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939-0145-4468-B6DE-B479A0E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45B18-B8F8-4DEF-8E40-4F12CF97F5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