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45620"/>
        <c:axId val="15869512"/>
      </c:barChart>
      <c:catAx>
        <c:axId val="13345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69512"/>
        <c:crosses val="autoZero"/>
        <c:auto val="1"/>
        <c:lblAlgn val="ctr"/>
        <c:lblOffset val="100"/>
        <c:noMultiLvlLbl val="0"/>
      </c:catAx>
      <c:valAx>
        <c:axId val="15869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45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48B-B068-43BD-8CB5-FE66AE4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28D-313C-4759-9D88-27922898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AEA-C25F-41A1-B83C-4C669F48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134-972C-4C92-A5C3-6417BEAF3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41B-BA4E-4C55-9BED-7A139FD5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222-4405-4FEA-8EEC-15B446E0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5BD-C9A9-40DA-9C37-DF450015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9C1-2668-43E7-B5F5-F285985A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ED0-9D36-4D84-AAAB-4ED5B09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7CE-5E3F-41B9-B45D-13075F2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1E1-A09D-4BE5-A498-8EE300C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6BB-E5B1-412A-BEF7-601A055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35758-15D5-49AD-A415-6EABCB930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