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17738"/>
        <c:axId val="36566774"/>
      </c:barChart>
      <c:catAx>
        <c:axId val="98717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6774"/>
        <c:crosses val="autoZero"/>
        <c:auto val="1"/>
        <c:lblAlgn val="ctr"/>
        <c:lblOffset val="100"/>
        <c:noMultiLvlLbl val="0"/>
      </c:catAx>
      <c:valAx>
        <c:axId val="36566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17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F9C-475C-446F-B56C-B431110F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CB2-DFF6-4079-AF80-A856B1D9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AE7-A11B-4A19-89FB-FF4379E2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6F1-C89A-4446-98CC-EF50F6C7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1F0-A619-4A08-85EB-DC91B6A3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255-1C69-4D4E-A46C-064ECFA6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8F2-28DD-45A1-9187-6FF563B1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320-9F9B-47B7-B8B6-4C48EE76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152-E6FA-4850-B992-AA28E634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1EB-6B5C-43CE-9BD3-A7965802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7F2-EADD-4F28-9BB6-60C8C039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B07-1978-4389-A890-0947410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36EAF-1A46-43AE-ABD1-E10391925B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