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928245"/>
        <c:axId val="32103572"/>
      </c:barChart>
      <c:catAx>
        <c:axId val="819282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03572"/>
        <c:crosses val="autoZero"/>
        <c:auto val="1"/>
        <c:lblAlgn val="ctr"/>
        <c:lblOffset val="100"/>
        <c:noMultiLvlLbl val="0"/>
      </c:catAx>
      <c:valAx>
        <c:axId val="321035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282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D6B0-689D-4593-A4BF-FC42D073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FAC4-8B3A-475A-9203-3BAA4331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E22C-577F-48C2-AB8E-90EE0E5B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067F-42B8-4ADE-A8D8-23BA81FA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7C95-C054-4BBD-9C85-74B45A1C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E7C7-DC53-4FCD-9052-AF1A276B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4078-6F55-401C-952C-A27B1D6C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7310-61C4-41AC-92D7-6BF64BAA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2473-4F85-4A3E-AD91-359B5C5F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3D53-5043-4CDE-A391-6ECFFB0E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BCC4-3E48-4C16-8D91-42F1AF8B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624B-3538-440E-BFEA-52ACF145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AD46A-01FD-418D-B9DD-08553913E5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