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308749"/>
        <c:axId val="38725626"/>
      </c:barChart>
      <c:catAx>
        <c:axId val="483087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725626"/>
        <c:crosses val="autoZero"/>
        <c:auto val="1"/>
        <c:lblAlgn val="ctr"/>
        <c:lblOffset val="100"/>
        <c:noMultiLvlLbl val="0"/>
      </c:catAx>
      <c:valAx>
        <c:axId val="387256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3087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742B-5413-4F8F-A214-0FB401235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BB12-0C37-4920-A334-4D0E59F90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79B5-E214-4CBB-A455-2F8F3FD45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835C-AF01-4D07-AD43-1F21711CF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14DA-4870-4463-9798-0A3E14E89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C14B-C9CF-4CDA-BD90-BE8AE2AA8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5224-EDB4-4CE8-A248-120826473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9200-D0B7-44D2-B267-CDE024D7C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7228-67A2-4077-8126-C2738B51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DA39-629C-4C9C-8DA2-96BEA453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3802-FB1B-4E15-AE2A-40B23515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FD85-E98A-4AE9-849B-2B32D5CC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4F64C0-4455-4797-8E28-35AC81138B0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