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42916"/>
        <c:axId val="59274687"/>
      </c:barChart>
      <c:catAx>
        <c:axId val="76442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4687"/>
        <c:crosses val="autoZero"/>
        <c:auto val="1"/>
        <c:lblAlgn val="ctr"/>
        <c:lblOffset val="100"/>
        <c:noMultiLvlLbl val="0"/>
      </c:catAx>
      <c:valAx>
        <c:axId val="59274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2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528-FCE8-4E5E-A693-5A0AD437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A88-75F7-4E21-B676-8A02C335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4E1-7B9F-4D6F-97FD-3A5CD7A5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A04-BBCF-4270-9AC2-D24F7D97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5CF-3848-478D-9A1E-96FBBCF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E40-0210-4C3A-8B60-F04B0C4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7FD-E635-4407-8098-96E091B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D33-3FC8-4130-97A9-72DDCF72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06E-2D24-4BA5-9647-0D2E1FF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A35-234C-4A67-8A34-FF11E32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692-1FEB-4CDA-BA4B-9A772FB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7FF-E272-424C-AD18-B5494FE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F7F8D-E21C-4901-AAD6-EA347D6C07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