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98988"/>
        <c:axId val="6745677"/>
      </c:barChart>
      <c:catAx>
        <c:axId val="17398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677"/>
        <c:crosses val="autoZero"/>
        <c:auto val="1"/>
        <c:lblAlgn val="ctr"/>
        <c:lblOffset val="100"/>
        <c:noMultiLvlLbl val="0"/>
      </c:catAx>
      <c:valAx>
        <c:axId val="6745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98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434-DB5D-4040-94D2-795DAADA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A2B-4BF8-42FF-B80D-9B49A608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ABE-A61D-4E80-8D23-F4CA6BE3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0A3-2581-4FCB-9719-720E89E0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230-AD60-4228-B466-C1E4C6C6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CC2F-B464-4B5C-BACE-C766BBDD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623-AE7C-40D7-B126-9AA58014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B32D-4345-4A51-88A4-B484BFA4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308D-BC6E-4489-B852-FBF8D8F3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A04-E6D3-495B-9F2E-D95B4B33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715-F5E3-4868-B5FF-7F63B613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A43-0952-471F-83ED-527A6EE8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812C4-DF10-4C95-9B56-8C9135A0DE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